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wmf" ContentType="image/x-wmf"/>
  <Override PartName="/ppt/media/image11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37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F33-CED8-40DD-AF18-B4F72317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FAE-AC3F-4D87-802A-390651D7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0C8-F94A-47A0-966F-0F70E92A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4A6-EFCE-4385-93E2-4E75224E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134C-6FC7-448E-961F-E7766F8F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475F-DB1A-4A06-B787-80E5C56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F50-5EF2-46C3-AB5F-92AA230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92E-3FBA-413D-8ED5-71F5817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1458-0A14-4AE8-8986-BFBD3AE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23F-C700-4D64-B45C-63E4D6E7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5B1-574F-46AF-A7C3-F26A2C9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DDB-C246-4A7C-8EF7-7DF58B2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A248-EDA7-42F1-A0B9-50673B0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B75-8130-4994-8C50-D5D4D13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E40-79F6-48D9-8429-903A7BB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02B0-5219-4BBF-8BE1-5D6EAFD8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8FBF-B610-40A2-AAC0-548685CC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8C4-4E13-495E-8240-D22D524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548-ADF6-4820-8B63-16F569A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22E-F047-4B3B-8776-EAC975B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97C-8DEA-4BF5-AC35-FA7D7A9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A54-A522-4DAC-BCFD-13571A4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2E2-1D9F-48F8-BF7E-213BAEA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06F-33C1-45DF-8A41-1BE05B1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C8C1-1949-42A3-855B-4615835471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D08-5611-4636-98A7-AB674953D6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rrors and L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 are generally assumed to make small angles with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ays make large angles, they may converge to points other than the image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sults in a blurred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ffect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herical aber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564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cave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can be used to determine the magnification of the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’ is negative when the image is inverted with respect to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41720" y="3489480"/>
          <a:ext cx="25272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3489480"/>
                    <a:ext cx="25272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cave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metry shows the relationship between the image and object dist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rror eq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03400" y="4383000"/>
          <a:ext cx="170496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383000"/>
                    <a:ext cx="17049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8880" y="2514600"/>
            <a:ext cx="49928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n object is very far away, then p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1/p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ing rays are essentially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special case, the image poin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cal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from the mirror to the focal poin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cal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cal length is ½ the radius of curv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419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Point and Focal Length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cal point is dependent solely on the curvature of the mirror, not by the location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 = R /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irror equation can be expressed 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82800" y="5162400"/>
          <a:ext cx="233028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5162400"/>
                    <a:ext cx="23302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Shown by Parallel 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2055960"/>
            <a:ext cx="77724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x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onvex mirror is sometimes called 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iverging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rays from any point on the object diverge after reflection as though they were coming from some point behind the mirro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image is virtual because it lies behind the mirror at the point where the reflected rays appear to origin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eneral, the image formed by a convex mirror is upright, virtual, and smaller than the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vex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661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y diag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used to determine the position and size of an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graphical constructions which tell the overall nature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 also be used to check the parameters calculated from the mirror and magnification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ation for Mirrors and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bject di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distance from the object to the mirror or l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mage di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distance from the image to the mirror or l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 are formed at the point where rays actually intersect or appear to origi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ateral magn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mirror or lens is the ratio of the image height to the object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rawing A Ra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the ray diagram,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the center of curv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rays are dra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ll start from the same position o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rsection of any two of the rays at a point locates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ray serves as a check of the co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Rays in a Ra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1 is drawn parallel to the principle axis and is reflected back through the focal point, 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2 is drawn through the focal point and is reflected parallel to the principle 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3 is drawn through the center of curvature and is reflected back on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the 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ys actually go in all directions from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ree rays were chosen for their ease of 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age point obtained by the ray diagram must agree with the value of q calculated from the mirror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cave Mirror, p &gt; 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outside the center of curvature of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inve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smaller tha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767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a Concave Mirror, p &l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between the mirror and the focal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larger tha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890720"/>
            <a:ext cx="67816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a Convex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in front of a convex mirr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smaller tha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Im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concave mirror, the image may be either real or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outside the focal point, the image is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at the focal point, the image is infinitely far a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between the mirror and the focal point, the image is vir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convex mirror, the image is always virtual and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object distance increases, the virtual image gets sma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s Formed by Re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 originate from the object point, O, and pass through the image point,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images are formed on the side opposite from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12920" y="3913200"/>
          <a:ext cx="232416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3913200"/>
                    <a:ext cx="2324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840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Refracting Surfa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1520" y="2438280"/>
            <a:ext cx="89661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at Refracting Surfa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formed by a flat refracting surface is on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de of the surface as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ag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age forms between the object and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ays bend away from the normal sinc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925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Images for Mirrors and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l i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light actually passes through the imag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images can be displayed on scre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the light does not pass through the imag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appears to diverge from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images cannot be displayed on scre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many interesting results of refraction in the atmosphe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n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r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 and Sunse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ght rays from the sun are bent as they pass into the at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is a gradual bend because the light passes through layers of the at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ch layer has a slightly different index of refra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un is seen to be above the horizon even after it has fallen below 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79760" y="2590920"/>
            <a:ext cx="46119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 and Mir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rage can be observed when the air above the ground is warmer than the air at higher ele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in path B are directed toward the ground and then bent by ref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server sees both an upright and an inverted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22560" y="2286000"/>
            <a:ext cx="51451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hin lens consists of a piece of glass or plastic, ground so that each of its two refracting surfaces is a segment of either a sphere or a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ses are commonly used to form images by refraction in optical instr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 Lens Shap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ver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ave positive focal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ickest in the mid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98880" y="2251080"/>
          <a:ext cx="484020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2251080"/>
                    <a:ext cx="48402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hin Lens Shap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ver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ave negative focal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ickest at the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9880" y="2209680"/>
          <a:ext cx="4724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724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length, ƒ, is the image distance that corresponds to an infinite object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same as for mi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in lens has two focal points, corresponding to parallel rays from the left and from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hin lens is one in which the distance between the surface of the lens and the center of the lens is neglig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a Con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pass through the lens and converge at the focal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can come from the left or right of the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79108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0" y="1905120"/>
          <a:ext cx="5867280" cy="20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58672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a Di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81080"/>
          <a:ext cx="50925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50925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diverge after passing through the diverging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point is the point where the rays appear to have origin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666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ometric derivation of the equations is very similar to that of mi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55800" y="4267080"/>
          <a:ext cx="24159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4267080"/>
                    <a:ext cx="24159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48006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Im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find where an image is formed, it is always necessary to follow at least two rays of light as they reflect from the mi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quations can be used for both converging and diverging l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nverging lens has a positive focal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verging lens has a negative focal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1520" y="2743200"/>
            <a:ext cx="89661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for a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length of a lens is related to the curvature of its front and back surfaces and the index of refraction of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ens maker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74880" y="3809880"/>
          <a:ext cx="440532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4880" y="3809880"/>
                    <a:ext cx="44053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s for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y diagrams are essential for understanding the overall image 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rays are dra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rst ray is drawn parallel to the first principle axis and then passes through (or appears to come from) one of the focal lengt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ray is drawn through the center of the lens and continues in a straight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hird ray is drawn from the other focal  point and emerges from the lens parallel to the principle ax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n infinite number of rays, these are conven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verging Lens, p &g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r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335240" y="2093760"/>
            <a:ext cx="7421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verging Lens, p &l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1933560"/>
            <a:ext cx="7543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Di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50760" y="2017800"/>
            <a:ext cx="7278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s of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produced by the first lens is calculated as though the second lens were not pres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then approaches the second lens as if it had come from the image of the first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image of the first lens is treated as the object of the second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formed by the second lens is the final image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of Thin Lense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image formed by the first lens lies on the back side of the second lens, then the image is treated at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irtual 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the second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 will be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if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product of the magnification of the separate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of Thin Lenses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2114640"/>
            <a:ext cx="853452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at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st possibl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of the image can be determined by geom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ray starts at P, follows path PQ and reflects back on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cond ray follows path PR and reflects according to the Law of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687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and Mirror Aber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he basic problems is the imperfect quality of the im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ly the result of defects in shape and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mmon types of aberrations ex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lts from the focal points of light rays far from the principle axis are different from the focal points of rays passing near the ax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a mirror, parabolic shapes can be used to correct for spherical aber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611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romatic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wavelengths of light refracted by a lens focus at different poi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et rays are refracted more than red r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al length for red light is greater than the focal length for violet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romatic aberration can be minimized by the use of a combination of converging and diverging len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611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,8,11,16,27,28,29,36,38,4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,5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perties of the Image Formed by a Flat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as far behind the mirror as the object is in fro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 =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unmagn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mage height is the same as the object he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’ = h and M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as the same orientation as the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an apparent left-right reversal in the im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 – Day and Night Settings on Auto Mirrors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daytime setting, the bright beam of reflected light is directed into the driver’s e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nighttime setting, the dim beam of reflected light is directed into the driver’s eyes, while the bright beam goes else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1814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hape of a segment of a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cave 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ilvered surface of the mirror on the inner, or concave, side of the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vex 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ilvered surface of the mirror on the outer, or convex, side of the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cave Mirror,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irror has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dius of curva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enter of curva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point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V is the center of the spherical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ne drawn from C to 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inciple 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43400" y="2057400"/>
          <a:ext cx="46116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4611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9:10:38Z</dcterms:created>
  <dc:creator>Brooks/Cole</dc:creator>
  <dc:description/>
  <dc:language>en-US</dc:language>
  <cp:lastModifiedBy>DCPS</cp:lastModifiedBy>
  <dcterms:modified xsi:type="dcterms:W3CDTF">2007-02-26T18:25:10Z</dcterms:modified>
  <cp:revision>22</cp:revision>
  <dc:subject/>
  <dc:title>Chapter 23</dc:title>
</cp:coreProperties>
</file>